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3.wmf" ContentType="image/x-wmf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ECE-6702-4D36-AB75-F3AD673F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A065-5771-478E-B1BD-74E21903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C9F7-3555-4FA1-86FE-AB31B897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FF00-23E5-46C7-8794-7762D1C6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F964-787C-4B04-A291-A5A692FD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2825-DBC0-4AE0-8D1B-A00A11CF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4E5B-FAA3-45A5-B7F0-AE16547D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534D-88CD-4B8F-81FB-37427BAB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EDB7-76D1-474B-BFAE-BFEDF36E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C3D2-9984-4525-BDB9-5A2D3966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16E9-17C2-4984-B4AD-2CD5CF67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653D-08F6-47B6-9590-FD80ECE7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03BB-FBA7-4475-9F85-8CB922C8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295E-394F-4D6C-9336-D32247E5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1B2D-F845-4061-82A7-3E9E758E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DFF5-CEAF-4227-9A93-319FFFE1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2BD6-27CD-4FB5-80B7-629669F4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16EC-5D12-4E44-BF66-0DFE4CAE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134C-F0B2-477D-9007-C9CBB900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19A-57C1-4F40-976B-CD948827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85A5-53F5-4654-B9E2-7898CE8F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DDD-2F10-4AEA-A879-388023A9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96DD-B9DF-47C9-98C8-D983FD84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A33-4AAD-4D92-B558-8E60F0B7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5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4A69-A538-4154-8C17-B5C94FA7C654}" type="datetime">
              <a:rPr b="0" lang="fr-FR" sz="1400" spc="-1" strike="noStrike">
                <a:solidFill>
                  <a:srgbClr val="a08366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DCD1-C2DA-4A52-8207-1634F83034E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5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18E3-6CC0-4A19-9AAF-6DC8A880532F}" type="datetime">
              <a:rPr b="0" lang="fr-FR" sz="1400" spc="-1" strike="noStrike">
                <a:solidFill>
                  <a:srgbClr val="a08366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3E28-3D72-41FD-9077-736099C3E50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ritmindustry.com/" TargetMode="External"/><Relationship Id="rId4" Type="http://schemas.openxmlformats.org/officeDocument/2006/relationships/hyperlink" Target="https://web-japan.org/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928800" y="729000"/>
            <a:ext cx="7929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402000"/>
                </a:solidFill>
                <a:latin typeface="Arial"/>
              </a:rPr>
              <a:t>Séance 1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3"/>
          <p:cNvGrpSpPr/>
          <p:nvPr/>
        </p:nvGrpSpPr>
        <p:grpSpPr>
          <a:xfrm>
            <a:off x="3214800" y="3286080"/>
            <a:ext cx="237960" cy="382320"/>
            <a:chOff x="3214800" y="3286080"/>
            <a:chExt cx="237960" cy="382320"/>
          </a:xfrm>
        </p:grpSpPr>
        <p:sp>
          <p:nvSpPr>
            <p:cNvPr id="125" name="Oval 44"/>
            <p:cNvSpPr/>
            <p:nvPr/>
          </p:nvSpPr>
          <p:spPr>
            <a:xfrm>
              <a:off x="3215520" y="3286080"/>
              <a:ext cx="23724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26" name="AutoShape 45"/>
            <p:cNvCxnSpPr/>
            <p:nvPr/>
          </p:nvCxnSpPr>
          <p:spPr>
            <a:xfrm>
              <a:off x="3214800" y="337140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27" name="AutoShape 46"/>
            <p:cNvCxnSpPr/>
            <p:nvPr/>
          </p:nvCxnSpPr>
          <p:spPr>
            <a:xfrm flipH="1">
              <a:off x="3430800" y="3367080"/>
              <a:ext cx="21960" cy="2520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28" name="Arc 47"/>
            <p:cNvSpPr/>
            <p:nvPr/>
          </p:nvSpPr>
          <p:spPr>
            <a:xfrm rot="5232600">
              <a:off x="3306600" y="353988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129" name="Group 43"/>
          <p:cNvGrpSpPr/>
          <p:nvPr/>
        </p:nvGrpSpPr>
        <p:grpSpPr>
          <a:xfrm>
            <a:off x="2857680" y="3571920"/>
            <a:ext cx="237960" cy="381960"/>
            <a:chOff x="2857680" y="3571920"/>
            <a:chExt cx="237960" cy="381960"/>
          </a:xfrm>
        </p:grpSpPr>
        <p:sp>
          <p:nvSpPr>
            <p:cNvPr id="130" name="Oval 44"/>
            <p:cNvSpPr/>
            <p:nvPr/>
          </p:nvSpPr>
          <p:spPr>
            <a:xfrm>
              <a:off x="2858400" y="3571920"/>
              <a:ext cx="23724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31" name="AutoShape 45"/>
            <p:cNvCxnSpPr/>
            <p:nvPr/>
          </p:nvCxnSpPr>
          <p:spPr>
            <a:xfrm>
              <a:off x="2857680" y="365724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32" name="AutoShape 46"/>
            <p:cNvCxnSpPr/>
            <p:nvPr/>
          </p:nvCxnSpPr>
          <p:spPr>
            <a:xfrm flipH="1">
              <a:off x="3073680" y="3652560"/>
              <a:ext cx="21960" cy="2516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33" name="Arc 47"/>
            <p:cNvSpPr/>
            <p:nvPr/>
          </p:nvSpPr>
          <p:spPr>
            <a:xfrm rot="5232600">
              <a:off x="2949480" y="382536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34" name="Rectangle 1"/>
          <p:cNvSpPr/>
          <p:nvPr/>
        </p:nvSpPr>
        <p:spPr>
          <a:xfrm>
            <a:off x="1000080" y="214200"/>
            <a:ext cx="77151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En comparant nos tests, nous pouvons proposer le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solutions technologique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suivantes pour résoudre notre problème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5" name="Image 42" descr="D:\philippe collège\B InSight\activité sismo proposition\avec caoutchouc.JPG"/>
          <p:cNvPicPr/>
          <p:nvPr/>
        </p:nvPicPr>
        <p:blipFill>
          <a:blip r:embed="rId1"/>
          <a:stretch/>
        </p:blipFill>
        <p:spPr>
          <a:xfrm>
            <a:off x="1428840" y="4143240"/>
            <a:ext cx="3286080" cy="2357640"/>
          </a:xfrm>
          <a:prstGeom prst="rect">
            <a:avLst/>
          </a:prstGeom>
          <a:ln w="0">
            <a:noFill/>
          </a:ln>
        </p:spPr>
      </p:pic>
      <p:pic>
        <p:nvPicPr>
          <p:cNvPr id="136" name="Image 52" descr="D:\philippe collège\B InSight\activité sismo proposition\avec ressorts.JPG"/>
          <p:cNvPicPr/>
          <p:nvPr/>
        </p:nvPicPr>
        <p:blipFill>
          <a:blip r:embed="rId2"/>
          <a:stretch/>
        </p:blipFill>
        <p:spPr>
          <a:xfrm>
            <a:off x="5214960" y="4143240"/>
            <a:ext cx="3214800" cy="235764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43"/>
          <p:cNvGrpSpPr/>
          <p:nvPr/>
        </p:nvGrpSpPr>
        <p:grpSpPr>
          <a:xfrm>
            <a:off x="2143080" y="3571920"/>
            <a:ext cx="238320" cy="381960"/>
            <a:chOff x="2143080" y="3571920"/>
            <a:chExt cx="238320" cy="381960"/>
          </a:xfrm>
        </p:grpSpPr>
        <p:sp>
          <p:nvSpPr>
            <p:cNvPr id="138" name="Oval 44"/>
            <p:cNvSpPr/>
            <p:nvPr/>
          </p:nvSpPr>
          <p:spPr>
            <a:xfrm>
              <a:off x="2143800" y="3571920"/>
              <a:ext cx="23760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39" name="AutoShape 45"/>
            <p:cNvCxnSpPr/>
            <p:nvPr/>
          </p:nvCxnSpPr>
          <p:spPr>
            <a:xfrm>
              <a:off x="2143080" y="365724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40" name="AutoShape 46"/>
            <p:cNvCxnSpPr/>
            <p:nvPr/>
          </p:nvCxnSpPr>
          <p:spPr>
            <a:xfrm flipH="1">
              <a:off x="2359440" y="3652560"/>
              <a:ext cx="21960" cy="2516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41" name="Arc 47"/>
            <p:cNvSpPr/>
            <p:nvPr/>
          </p:nvSpPr>
          <p:spPr>
            <a:xfrm rot="5232600">
              <a:off x="2234880" y="382536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142" name="Group 20"/>
          <p:cNvGrpSpPr/>
          <p:nvPr/>
        </p:nvGrpSpPr>
        <p:grpSpPr>
          <a:xfrm>
            <a:off x="2143080" y="1785960"/>
            <a:ext cx="1285920" cy="1928880"/>
            <a:chOff x="2143080" y="1785960"/>
            <a:chExt cx="1285920" cy="1928880"/>
          </a:xfrm>
        </p:grpSpPr>
        <p:sp>
          <p:nvSpPr>
            <p:cNvPr id="143" name="AutoShape 21"/>
            <p:cNvSpPr/>
            <p:nvPr/>
          </p:nvSpPr>
          <p:spPr>
            <a:xfrm>
              <a:off x="2143080" y="1785960"/>
              <a:ext cx="1285920" cy="1928880"/>
            </a:xfrm>
            <a:prstGeom prst="cube">
              <a:avLst>
                <a:gd name="adj" fmla="val 25000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44" name="Zone de texte 2"/>
            <p:cNvSpPr/>
            <p:nvPr/>
          </p:nvSpPr>
          <p:spPr>
            <a:xfrm>
              <a:off x="2498760" y="3324960"/>
              <a:ext cx="263160" cy="38520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402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145" name="Group 23"/>
            <p:cNvGrpSpPr/>
            <p:nvPr/>
          </p:nvGrpSpPr>
          <p:grpSpPr>
            <a:xfrm>
              <a:off x="2320920" y="2392200"/>
              <a:ext cx="571680" cy="807120"/>
              <a:chOff x="2320920" y="2392200"/>
              <a:chExt cx="571680" cy="807120"/>
            </a:xfrm>
          </p:grpSpPr>
          <p:sp>
            <p:nvSpPr>
              <p:cNvPr id="146" name="Rectangle 24"/>
              <p:cNvSpPr/>
              <p:nvPr/>
            </p:nvSpPr>
            <p:spPr>
              <a:xfrm>
                <a:off x="2320920" y="239220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7" name="Rectangle 25"/>
              <p:cNvSpPr/>
              <p:nvPr/>
            </p:nvSpPr>
            <p:spPr>
              <a:xfrm>
                <a:off x="2320920" y="28634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8" name="Rectangle 26"/>
              <p:cNvSpPr/>
              <p:nvPr/>
            </p:nvSpPr>
            <p:spPr>
              <a:xfrm>
                <a:off x="2701800" y="24026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9" name="Rectangle 27"/>
              <p:cNvSpPr/>
              <p:nvPr/>
            </p:nvSpPr>
            <p:spPr>
              <a:xfrm>
                <a:off x="2701800" y="28742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Freeform 48"/>
          <p:cNvSpPr/>
          <p:nvPr/>
        </p:nvSpPr>
        <p:spPr>
          <a:xfrm>
            <a:off x="5572080" y="3714840"/>
            <a:ext cx="376200" cy="3906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1" name="Freeform 48"/>
          <p:cNvSpPr/>
          <p:nvPr/>
        </p:nvSpPr>
        <p:spPr>
          <a:xfrm>
            <a:off x="6357960" y="3714840"/>
            <a:ext cx="376200" cy="3906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Freeform 48"/>
          <p:cNvSpPr/>
          <p:nvPr/>
        </p:nvSpPr>
        <p:spPr>
          <a:xfrm>
            <a:off x="6715080" y="3357720"/>
            <a:ext cx="357120" cy="3236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5643720" y="1785960"/>
            <a:ext cx="1285560" cy="1928880"/>
            <a:chOff x="5643720" y="1785960"/>
            <a:chExt cx="1285560" cy="1928880"/>
          </a:xfrm>
        </p:grpSpPr>
        <p:sp>
          <p:nvSpPr>
            <p:cNvPr id="154" name="AutoShape 21"/>
            <p:cNvSpPr/>
            <p:nvPr/>
          </p:nvSpPr>
          <p:spPr>
            <a:xfrm>
              <a:off x="5643720" y="1785960"/>
              <a:ext cx="1285560" cy="1928880"/>
            </a:xfrm>
            <a:prstGeom prst="cube">
              <a:avLst>
                <a:gd name="adj" fmla="val 25000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55" name="Zone de texte 2"/>
            <p:cNvSpPr/>
            <p:nvPr/>
          </p:nvSpPr>
          <p:spPr>
            <a:xfrm>
              <a:off x="5999400" y="3324960"/>
              <a:ext cx="263160" cy="38520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402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156" name="Group 23"/>
            <p:cNvGrpSpPr/>
            <p:nvPr/>
          </p:nvGrpSpPr>
          <p:grpSpPr>
            <a:xfrm>
              <a:off x="5821560" y="2392200"/>
              <a:ext cx="571680" cy="807120"/>
              <a:chOff x="5821560" y="2392200"/>
              <a:chExt cx="571680" cy="807120"/>
            </a:xfrm>
          </p:grpSpPr>
          <p:sp>
            <p:nvSpPr>
              <p:cNvPr id="157" name="Rectangle 24"/>
              <p:cNvSpPr/>
              <p:nvPr/>
            </p:nvSpPr>
            <p:spPr>
              <a:xfrm>
                <a:off x="5821560" y="239220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58" name="Rectangle 25"/>
              <p:cNvSpPr/>
              <p:nvPr/>
            </p:nvSpPr>
            <p:spPr>
              <a:xfrm>
                <a:off x="5821560" y="28634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59" name="Rectangle 26"/>
              <p:cNvSpPr/>
              <p:nvPr/>
            </p:nvSpPr>
            <p:spPr>
              <a:xfrm>
                <a:off x="6202440" y="24026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60" name="Rectangle 27"/>
              <p:cNvSpPr/>
              <p:nvPr/>
            </p:nvSpPr>
            <p:spPr>
              <a:xfrm>
                <a:off x="6202440" y="28742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 Box 5"/>
          <p:cNvSpPr/>
          <p:nvPr/>
        </p:nvSpPr>
        <p:spPr>
          <a:xfrm>
            <a:off x="3214800" y="3714840"/>
            <a:ext cx="16779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ouchons caoutchouc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7215120" y="3786120"/>
            <a:ext cx="15508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Ressort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928800" y="4786200"/>
            <a:ext cx="8920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âtiment A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928800" y="5786280"/>
            <a:ext cx="8920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âtiment B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1000080" y="57168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Éléments de répons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66" name="Picture 5" descr="http://laurent.mougel1.free.fr/prevention_seismes_fichiers/amortisseur_01.jpg"/>
          <p:cNvPicPr/>
          <p:nvPr/>
        </p:nvPicPr>
        <p:blipFill>
          <a:blip r:embed="rId1"/>
          <a:stretch/>
        </p:blipFill>
        <p:spPr>
          <a:xfrm>
            <a:off x="1000080" y="2786040"/>
            <a:ext cx="3695760" cy="2714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ttp://laurent.mougel1.free.fr/prevention_seismes_fichiers/amortisseur_02.jpg"/>
          <p:cNvPicPr/>
          <p:nvPr/>
        </p:nvPicPr>
        <p:blipFill>
          <a:blip r:embed="rId2"/>
          <a:stretch/>
        </p:blipFill>
        <p:spPr>
          <a:xfrm>
            <a:off x="5072040" y="2786040"/>
            <a:ext cx="3645000" cy="27147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110040" y="2071800"/>
            <a:ext cx="29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928800" y="5643720"/>
            <a:ext cx="79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Source : </a:t>
            </a:r>
            <a:r>
              <a:rPr b="0" lang="fr-FR" sz="1200" spc="-1" strike="noStrike" u="sng">
                <a:solidFill>
                  <a:srgbClr val="9a7f32"/>
                </a:solidFill>
                <a:uFillTx/>
                <a:latin typeface="Arial"/>
                <a:ea typeface="Calibri"/>
                <a:hlinkClick r:id="rId3"/>
              </a:rPr>
              <a:t>http://ritmindustry.com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Source : </a:t>
            </a:r>
            <a:r>
              <a:rPr b="0" lang="fr-FR" sz="1200" spc="-1" strike="noStrike" u="sng">
                <a:solidFill>
                  <a:srgbClr val="9a7f32"/>
                </a:solidFill>
                <a:uFillTx/>
                <a:latin typeface="Arial"/>
                <a:ea typeface="Calibri"/>
                <a:hlinkClick r:id="rId4"/>
              </a:rPr>
              <a:t>https://web-japan.org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00080" y="192888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mortisseur parasismique en caoutchouc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2" name="Flèche vers le bas 9"/>
          <p:cNvSpPr/>
          <p:nvPr/>
        </p:nvSpPr>
        <p:spPr>
          <a:xfrm rot="12606000">
            <a:off x="2303280" y="3933360"/>
            <a:ext cx="285480" cy="10000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0000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3" name="Flèche vers le bas 10"/>
          <p:cNvSpPr/>
          <p:nvPr/>
        </p:nvSpPr>
        <p:spPr>
          <a:xfrm rot="12606000">
            <a:off x="5803920" y="4076640"/>
            <a:ext cx="285840" cy="10000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1000080" y="57168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Éléments de répons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071720" y="171468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Dans la réalité il faut aussi rendre le bâtiment plus rigid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76" name="Picture 2" descr="https://files1.structurae.de/files/photos/5256/2015-06-01/dsc06111.jpg"/>
          <p:cNvPicPr/>
          <p:nvPr/>
        </p:nvPicPr>
        <p:blipFill>
          <a:blip r:embed="rId1"/>
          <a:stretch/>
        </p:blipFill>
        <p:spPr>
          <a:xfrm>
            <a:off x="1428840" y="2643120"/>
            <a:ext cx="2786040" cy="3322800"/>
          </a:xfrm>
          <a:prstGeom prst="rect">
            <a:avLst/>
          </a:prstGeom>
          <a:ln w="0">
            <a:noFill/>
          </a:ln>
        </p:spPr>
      </p:pic>
      <p:pic>
        <p:nvPicPr>
          <p:cNvPr id="177" name="fancybox-img" descr="Renforcement sismique du collège de Dillon 1 - Fort-de-France (Martinique)"/>
          <p:cNvPicPr/>
          <p:nvPr/>
        </p:nvPicPr>
        <p:blipFill>
          <a:blip r:embed="rId2"/>
          <a:stretch/>
        </p:blipFill>
        <p:spPr>
          <a:xfrm>
            <a:off x="5429160" y="2643120"/>
            <a:ext cx="2500560" cy="3346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195640" y="2719800"/>
            <a:ext cx="47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928800" y="6000120"/>
            <a:ext cx="785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John Hancock Center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 (© Nicolas Janberg,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Renforcement sismique du collège de Dillon 11 juin 2015,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 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(usage personnel/éducatif))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- Fort-de-France (Martinique)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1000080" y="428760"/>
            <a:ext cx="7786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position de synthèse décontextualisée</a:t>
            </a:r>
            <a:r>
              <a:rPr b="1" lang="fr-FR" sz="2400" spc="-1" strike="noStrike">
                <a:solidFill>
                  <a:srgbClr val="402000"/>
                </a:solidFill>
                <a:latin typeface="Arial"/>
              </a:rPr>
              <a:t> </a:t>
            </a:r>
            <a:br>
              <a:rPr sz="2400"/>
            </a:br>
            <a:r>
              <a:rPr b="0" lang="fr-FR" sz="2400" spc="-1" strike="noStrike">
                <a:solidFill>
                  <a:srgbClr val="402000"/>
                </a:solidFill>
                <a:latin typeface="Arial"/>
              </a:rPr>
              <a:t>(Proposée par l’enseignant en classe de 6e)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69390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mage 1" descr=""/>
          <p:cNvPicPr/>
          <p:nvPr/>
        </p:nvPicPr>
        <p:blipFill>
          <a:blip r:embed="rId1"/>
          <a:stretch/>
        </p:blipFill>
        <p:spPr>
          <a:xfrm>
            <a:off x="3786120" y="4643280"/>
            <a:ext cx="2286000" cy="5241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000080" y="1874520"/>
            <a:ext cx="7929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DIDIER Benjamin – TIRET Philipp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fesseurs de Sciences et Technologi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Collège Michelet TOURS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02000"/>
                </a:solidFill>
                <a:latin typeface="Arial"/>
              </a:rPr>
              <a:t>Académie Orléans-Tours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1000080" y="64296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réalisée par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1" descr="15 photos déchirantes avant et après montrent le ravage du séisme en Italie"/>
          <p:cNvPicPr/>
          <p:nvPr/>
        </p:nvPicPr>
        <p:blipFill>
          <a:blip r:embed="rId1"/>
          <a:stretch/>
        </p:blipFill>
        <p:spPr>
          <a:xfrm>
            <a:off x="1000080" y="1643040"/>
            <a:ext cx="7775640" cy="2357640"/>
          </a:xfrm>
          <a:prstGeom prst="rect">
            <a:avLst/>
          </a:prstGeom>
          <a:ln w="0">
            <a:noFill/>
          </a:ln>
        </p:spPr>
      </p:pic>
      <p:pic>
        <p:nvPicPr>
          <p:cNvPr id="91" name="Image 7" descr="http://3.bp.blogspot.com/_CkL4BVApd3Q/S06q3B5qQyI/AAAAAAAABcE/SyCS7QrDsEk/s1600/Haiti_Palais-national_avant-et-apr%25C3%25A8s_seisme_AP-APF-et%2BBBC_130110.jpg"/>
          <p:cNvPicPr/>
          <p:nvPr/>
        </p:nvPicPr>
        <p:blipFill>
          <a:blip r:embed="rId2"/>
          <a:stretch/>
        </p:blipFill>
        <p:spPr>
          <a:xfrm>
            <a:off x="1000080" y="4071960"/>
            <a:ext cx="3857760" cy="2544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928800" y="64440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Quel phénomène a pu provoquer cela ?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3" name="ZoneTexte 6"/>
          <p:cNvSpPr/>
          <p:nvPr/>
        </p:nvSpPr>
        <p:spPr>
          <a:xfrm>
            <a:off x="7500960" y="4000680"/>
            <a:ext cx="12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ource : BoredPanda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857840" y="62874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  <a:ea typeface="Calibri"/>
              </a:rPr>
              <a:t>Haïti: Palais national avant séisme et après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  <a:ea typeface="Calibri"/>
              </a:rPr>
              <a:t>Source :  AP, AFP, BBC, 13 janvier 2010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928800" y="1728720"/>
            <a:ext cx="7929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En classe entièr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pporter la réponse à la question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Compléter la fiche 1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1000080" y="21960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ais, qu’ont inventé les ingénieur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our amortir les secousses sismiqu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ur les bâtiments ?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97" name="Picture 2" descr="Vue aérienne d'un immeuble effondré après le séisme du 20 septembre à Mexico"/>
          <p:cNvPicPr/>
          <p:nvPr/>
        </p:nvPicPr>
        <p:blipFill>
          <a:blip r:embed="rId1"/>
          <a:stretch/>
        </p:blipFill>
        <p:spPr>
          <a:xfrm>
            <a:off x="1428840" y="1643040"/>
            <a:ext cx="6715080" cy="45417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5715000" y="621576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éisme du 20 septembre à Mexico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ource : Photo - AFP - Mario VAZQUEZ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1000080" y="1936800"/>
            <a:ext cx="792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ériode 1 (5 à 10 minutes)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eul, trouver une solution à la question en la représentant sous forme de croquis ou de schémas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000080" y="407700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ériode 2 (5 à 10 minutes)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ar équipe, mettre en commun les solutions à la question en sélectionner un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928800" y="729000"/>
            <a:ext cx="7929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402000"/>
                </a:solidFill>
                <a:latin typeface="Arial"/>
              </a:rPr>
              <a:t>Séance 2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928800" y="1736280"/>
            <a:ext cx="79293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En Equip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onter la manipulation de la fiche 2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vec le matériel proposé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Réaliser la solution proposée par l’équipe sur le bâtiment B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928800" y="71604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atériel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4" name="Image 2" descr=""/>
          <p:cNvPicPr/>
          <p:nvPr/>
        </p:nvPicPr>
        <p:blipFill>
          <a:blip r:embed="rId1"/>
          <a:stretch/>
        </p:blipFill>
        <p:spPr>
          <a:xfrm>
            <a:off x="5929200" y="1643040"/>
            <a:ext cx="2214720" cy="1571760"/>
          </a:xfrm>
          <a:prstGeom prst="rect">
            <a:avLst/>
          </a:prstGeom>
          <a:ln w="0">
            <a:noFill/>
          </a:ln>
        </p:spPr>
      </p:pic>
      <p:pic>
        <p:nvPicPr>
          <p:cNvPr id="105" name="Image 5" descr="D:\philippe collège\B InSight\activité sismo proposition\20190420_180909.jpg"/>
          <p:cNvPicPr/>
          <p:nvPr/>
        </p:nvPicPr>
        <p:blipFill>
          <a:blip r:embed="rId2"/>
          <a:stretch/>
        </p:blipFill>
        <p:spPr>
          <a:xfrm>
            <a:off x="1571760" y="1643040"/>
            <a:ext cx="2193840" cy="1589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06" name="Image 7" descr="D:\philippe collège\B InSight\activité sismo proposition\20190421_191725.jpg"/>
          <p:cNvPicPr/>
          <p:nvPr/>
        </p:nvPicPr>
        <p:blipFill>
          <a:blip r:embed="rId3"/>
          <a:stretch/>
        </p:blipFill>
        <p:spPr>
          <a:xfrm>
            <a:off x="3786120" y="1643040"/>
            <a:ext cx="2154240" cy="157788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07" name="Text Box 3"/>
          <p:cNvSpPr/>
          <p:nvPr/>
        </p:nvSpPr>
        <p:spPr>
          <a:xfrm>
            <a:off x="2571840" y="2928960"/>
            <a:ext cx="194760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2 blocs de béton cellulair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8" name="Image 10" descr=""/>
          <p:cNvPicPr/>
          <p:nvPr/>
        </p:nvPicPr>
        <p:blipFill>
          <a:blip r:embed="rId4"/>
          <a:stretch/>
        </p:blipFill>
        <p:spPr>
          <a:xfrm>
            <a:off x="1571760" y="3214800"/>
            <a:ext cx="221436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2643120" y="4500720"/>
            <a:ext cx="10191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Sabl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0" name="Image 11" descr="https://www.luxibio.com/880-large_default/pate-a-modeler-bio-cire-d-abeille.jpg"/>
          <p:cNvPicPr/>
          <p:nvPr/>
        </p:nvPicPr>
        <p:blipFill>
          <a:blip r:embed="rId5"/>
          <a:stretch/>
        </p:blipFill>
        <p:spPr>
          <a:xfrm>
            <a:off x="3786120" y="3214800"/>
            <a:ext cx="214308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4286160" y="4500720"/>
            <a:ext cx="155124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Pâte à modeler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2" name="Image 13" descr=""/>
          <p:cNvPicPr/>
          <p:nvPr/>
        </p:nvPicPr>
        <p:blipFill>
          <a:blip r:embed="rId6"/>
          <a:stretch/>
        </p:blipFill>
        <p:spPr>
          <a:xfrm>
            <a:off x="5929200" y="3214800"/>
            <a:ext cx="221472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6429240" y="4500720"/>
            <a:ext cx="16779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ouchons caoutchouc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4" name="Image 16" descr="D:\philippe collège\B InSight\activité sismo proposition\P1010776.JPG"/>
          <p:cNvPicPr/>
          <p:nvPr/>
        </p:nvPicPr>
        <p:blipFill>
          <a:blip r:embed="rId7"/>
          <a:stretch/>
        </p:blipFill>
        <p:spPr>
          <a:xfrm>
            <a:off x="1571760" y="4786200"/>
            <a:ext cx="221436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15" name="Image 17" descr="D:\philippe collège\B InSight\activité sismo proposition\P1010777.JPG"/>
          <p:cNvPicPr/>
          <p:nvPr/>
        </p:nvPicPr>
        <p:blipFill>
          <a:blip r:embed="rId8"/>
          <a:stretch/>
        </p:blipFill>
        <p:spPr>
          <a:xfrm>
            <a:off x="3786120" y="4786200"/>
            <a:ext cx="107172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16" name="Image 18" descr="D:\philippe collège\B InSight\activité sismo proposition\P1010778.JPG"/>
          <p:cNvPicPr/>
          <p:nvPr/>
        </p:nvPicPr>
        <p:blipFill>
          <a:blip r:embed="rId9"/>
          <a:stretch/>
        </p:blipFill>
        <p:spPr>
          <a:xfrm>
            <a:off x="4857840" y="4786200"/>
            <a:ext cx="107136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7" name="Text Box 3"/>
          <p:cNvSpPr/>
          <p:nvPr/>
        </p:nvSpPr>
        <p:spPr>
          <a:xfrm>
            <a:off x="2428920" y="6143760"/>
            <a:ext cx="130500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Plaquettes de boi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071960" y="6143760"/>
            <a:ext cx="15508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Ressort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9" name="Picture 18" descr="Toron de 3 fils rigides 3G 2.5mm² 100m"/>
          <p:cNvPicPr/>
          <p:nvPr/>
        </p:nvPicPr>
        <p:blipFill>
          <a:blip r:embed="rId10"/>
          <a:stretch/>
        </p:blipFill>
        <p:spPr>
          <a:xfrm>
            <a:off x="5929200" y="4786200"/>
            <a:ext cx="221472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20" name="Text Box 4"/>
          <p:cNvSpPr/>
          <p:nvPr/>
        </p:nvSpPr>
        <p:spPr>
          <a:xfrm>
            <a:off x="6500880" y="6143760"/>
            <a:ext cx="15508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Fil de fer ou électriqu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7072200" y="2928960"/>
            <a:ext cx="10191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Capteur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1071720" y="428760"/>
            <a:ext cx="7715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position de synthèse de l’activité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2000"/>
                </a:solidFill>
                <a:latin typeface="Arial"/>
              </a:rPr>
              <a:t>(A construire avec les élèves)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214280" y="2000160"/>
            <a:ext cx="757260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Lors de cette séance, nous avon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recherché et proposé des idée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afin d’amortir une secousse sismique sur un bâtiment que nous avons représentée sous la forme d’un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croqui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Nous avon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conçu et produit une maquette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de la solution technologique que nous avons retenue</a:t>
            </a:r>
            <a:r>
              <a:rPr b="0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.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3:59:41Z</dcterms:created>
  <dc:creator>PhT</dc:creator>
  <dc:description/>
  <dc:language>en-US</dc:language>
  <cp:lastModifiedBy>pht</cp:lastModifiedBy>
  <dcterms:modified xsi:type="dcterms:W3CDTF">2019-04-29T19:25:19Z</dcterms:modified>
  <cp:revision>186</cp:revision>
  <dc:subject/>
  <dc:title>SYNTHESE Recherche de solutions</dc:title>
</cp:coreProperties>
</file>