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BA1-A44F-429A-8C13-8985DA62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87F-EBF7-48F4-A208-1107FF5D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FF2FB-4899-41A3-B6A3-29FA4143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F1B7C-9675-4833-B719-F3AFB942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175B1-2020-4C50-A8C8-9BAFA021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78400-AA9A-4A91-B7E7-F6C936FD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30333-0293-4D7E-A14F-788C7952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072F6-56FA-4A42-B2F2-C8365DFC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EA5A4-CF31-4FAB-8127-9C1E0B8E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66788-C153-4768-BBC2-04DF62F2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3F0CB-E2C0-4A8B-8B56-EE591FE3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4DB-7787-45C1-AEB3-A89E6061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460-D024-4B14-A47D-1B49196C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46C9-3B9B-44E0-A089-924FA06A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E025-A55C-455A-BC1C-55524ECA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FE83-4B9A-4B6A-9991-F6A4C24D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1227-76DA-4B8E-8CED-31FB50DB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A9D3-38F7-41BE-925B-AF9DDC80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CE6F-19B3-4533-B03F-262978EC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B2BE-3A48-4F81-B63F-3DC14AAE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FAF-34DD-43FF-BF4D-013AF7F5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4644-49BB-4BD2-888B-DD9304FA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B6AF-1413-4E6A-89B1-2814081C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9931-6D5F-4B9F-8C35-56599D37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FCE8-DD8F-47D5-BD4C-14975180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C006-B006-4097-96F6-D6B9D5C4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C9E47-D36E-403B-A3A6-C5DF542B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3AE26-0679-4A4B-BC60-9D59F515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0DB1F-F6B8-4F4F-AB55-0D8226A8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80453-49CE-40AA-BBF2-E2AF0043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BE8C7-9B6E-4343-BC3E-0B7D3463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D1E-6F5D-4164-97DA-BA956363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4D3B4-E871-4C80-AA3A-74B6EF54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BD589-FDE6-4731-AC17-841C9724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73377-F8C6-4B5F-8152-17B2CDB4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0672-5993-4FD8-99C8-B38CCB32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D252-8DC1-43E9-A1B7-F63A0C92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60834-6E79-44BE-AE93-0C491CBE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D4DAD-45C7-4E46-9D7C-AD6A626E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623D9-6FB7-40E5-88C2-5BC7209C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D2A0B-28BD-4698-9914-C9F38898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154DA-6FF3-4A0E-96BC-A8AAF8BC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C13-BC75-4826-893E-0A300B72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73F21-9437-41D1-A921-8FC1F690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F0FDA-EB7B-4FE2-A0F6-198A74F6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E3EA0-0298-474C-8518-8736178A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CECE4-DF68-42E0-9C9D-F2AF4AD5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B171F-4B8B-4B51-9AD7-A744EC4F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72E0F-B7F1-4606-81BE-18FAC132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56871-5D58-4B69-B6A6-2523BE45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65CF8-7CF7-4D6D-8F2F-3E34581B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7D294-F188-4C49-92FF-FD52CF20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85C1A-3154-4CFE-84DB-58120899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2A1-2889-4116-BD67-EC965F85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5BDAB-D397-4DA4-9893-253A9299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3AA5F-1BF2-42D2-9930-6F7400FD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25A05-90C2-4EE8-8151-79499BB9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63C71-671B-4E0E-ACEA-E814CB56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05EED-1CB2-4EEC-A57B-DBEA1FD7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EFFF5-1DA8-401A-9104-F9939F8F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B7755-FD68-42EB-8D38-2DB8788D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E61B7-BB23-4D9E-A905-A3D97C3A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53D96-D4DA-49C7-BEB0-B8BF7029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53479-DADF-41B3-8594-F165CED0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15A6-190E-4540-A463-C33AACE4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32B66-90FA-49C5-88DC-BA3BE4C8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EA9F5-B611-4B6D-A859-49BB8F52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914CC-84D9-419F-A37B-E9895D6E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63F54-23CF-403A-991B-156F8FE2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ED13F-667E-40A1-9E03-1AD075F7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BD187-665C-431E-841D-A44D6A11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5C20D-E996-44B3-834B-DB0BA944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7A447-980F-4BC8-AB73-0D6E894D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AB300-8AE1-4B10-A348-9F210EA4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51174-69FE-4A78-8614-E7C09AB3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0D3-F8C4-44BC-8FDF-619F9732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2D952-8522-416B-8623-37C0716A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0A13F-AEDC-4AE3-BE09-C15C0F51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1E32D-A4DE-4EB2-A0D9-5B7791B3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9E06E-FD2A-436F-A6A9-9C74AB9F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4697E-D255-42FD-8372-4CF3AC10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4F3E2-7008-465C-B13D-A39CC4EA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F44D7-7F0B-4B64-876E-F444C551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AC49E-A973-4422-A0F5-400ACB05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7F2AD-BD27-4912-8C27-EAF2B6DE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37CB7-B6E4-403A-8AA2-9AA47B88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49D-23B7-4F3D-8FC6-C3505024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75139-4EEB-4AD7-9A4C-8C55ECA3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4714D-473B-48B7-BD4A-51448A03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7868F-1AE6-4743-A5E3-0B11126D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364A4-05C1-40B5-8B28-8F65DFE4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C0817-554A-4E16-8FBC-68E39301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9966C-200F-4E15-B9C8-7B0190B7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60E00-879E-491A-958E-0EC55391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05CEB-3C30-4B39-BA12-C2D91BEF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C6100-773C-49D7-9A42-365DE96B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020CF-5CA9-4D25-A615-E2D6B9F1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6A9-FC18-4628-95C6-30A3B971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ABF0F-779D-496D-845B-F75F1F8A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9A261-BD26-4E5F-995B-08EE43C3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4F64C-8A42-4D6A-8CED-BBC0DBA8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BA0F7-BD7C-45AA-AC91-B834058D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94AFF-6043-4856-8D85-32E29724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8172E-F1E1-48E0-B499-32263912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293BC-AF99-4DDB-86E2-F2D4B3C4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E207D-0393-4013-95FA-38EBB944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A2EFE-60F4-4953-8230-F7B8ED0E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52323-20C5-4A3E-87D7-CB8E0893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849E-1CC5-4F19-87B5-147316EEEF00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necteur droit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7825-E9C3-4D09-BEB2-86385CF8162B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B4D4-C8D2-450C-BA2D-1EBD9AF25279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necteur droit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DAB4-96F9-46A0-B768-F860C4946F8C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necteur droit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798D-1B91-4A7A-8C30-4B81E0276EA2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F30F-B2B9-4730-892F-991885DDFD7F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necteur droit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82FB-587F-48FE-9669-810E66FD48A4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7010-31BC-4FE5-949A-0D11F5E15495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160F-F51B-4505-BEBD-DCBB99C827BA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re 3" descr=""/>
          <p:cNvPicPr/>
          <p:nvPr/>
        </p:nvPicPr>
        <p:blipFill>
          <a:blip r:embed="rId1"/>
          <a:stretch/>
        </p:blipFill>
        <p:spPr>
          <a:xfrm>
            <a:off x="512640" y="622440"/>
            <a:ext cx="7979040" cy="1566720"/>
          </a:xfrm>
          <a:prstGeom prst="rect">
            <a:avLst/>
          </a:prstGeom>
          <a:ln w="0">
            <a:noFill/>
          </a:ln>
        </p:spPr>
      </p:pic>
      <p:pic>
        <p:nvPicPr>
          <p:cNvPr id="400" name="Image 6" descr="D:\philippe collège\B InSight\activité sismo proposition\20190421_191646.jpg"/>
          <p:cNvPicPr/>
          <p:nvPr/>
        </p:nvPicPr>
        <p:blipFill>
          <a:blip r:embed="rId2"/>
          <a:stretch/>
        </p:blipFill>
        <p:spPr>
          <a:xfrm>
            <a:off x="1785960" y="1857240"/>
            <a:ext cx="514332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2" name="Image 4" descr="D:\philippe collège\B InSight\activité sismo proposition\avec bois.JPG"/>
          <p:cNvPicPr/>
          <p:nvPr/>
        </p:nvPicPr>
        <p:blipFill>
          <a:blip r:embed="rId2"/>
          <a:stretch/>
        </p:blipFill>
        <p:spPr>
          <a:xfrm>
            <a:off x="928800" y="3500280"/>
            <a:ext cx="7286400" cy="3214800"/>
          </a:xfrm>
          <a:prstGeom prst="rect">
            <a:avLst/>
          </a:prstGeom>
          <a:ln w="0">
            <a:noFill/>
          </a:ln>
        </p:spPr>
      </p:pic>
      <p:pic>
        <p:nvPicPr>
          <p:cNvPr id="403" name="Image 5" descr="D:\philippe collège\B InSight\activité sismo proposition\20190425_150526.jpg"/>
          <p:cNvPicPr/>
          <p:nvPr/>
        </p:nvPicPr>
        <p:blipFill>
          <a:blip r:embed="rId3"/>
          <a:stretch/>
        </p:blipFill>
        <p:spPr>
          <a:xfrm>
            <a:off x="4643280" y="357120"/>
            <a:ext cx="3500640" cy="2857680"/>
          </a:xfrm>
          <a:prstGeom prst="rect">
            <a:avLst/>
          </a:prstGeom>
          <a:ln w="0">
            <a:noFill/>
          </a:ln>
        </p:spPr>
      </p:pic>
      <p:grpSp>
        <p:nvGrpSpPr>
          <p:cNvPr id="404" name="Groupe 8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05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06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D:\philippe collège\B InSight\activité sismo proposition\avec caoutchouc.JPG"/>
          <p:cNvPicPr/>
          <p:nvPr/>
        </p:nvPicPr>
        <p:blipFill>
          <a:blip r:embed="rId2"/>
          <a:stretch/>
        </p:blipFill>
        <p:spPr>
          <a:xfrm>
            <a:off x="1071720" y="3214800"/>
            <a:ext cx="7172280" cy="3332160"/>
          </a:xfrm>
          <a:prstGeom prst="rect">
            <a:avLst/>
          </a:prstGeom>
          <a:ln w="0">
            <a:noFill/>
          </a:ln>
        </p:spPr>
      </p:pic>
      <p:pic>
        <p:nvPicPr>
          <p:cNvPr id="409" name="Image 4" descr="D:\philippe collège\B InSight\activité sismo proposition\20190425_150335.jpg"/>
          <p:cNvPicPr/>
          <p:nvPr/>
        </p:nvPicPr>
        <p:blipFill>
          <a:blip r:embed="rId3"/>
          <a:stretch/>
        </p:blipFill>
        <p:spPr>
          <a:xfrm>
            <a:off x="5000760" y="357120"/>
            <a:ext cx="3198600" cy="257184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e 5"/>
          <p:cNvGrpSpPr/>
          <p:nvPr/>
        </p:nvGrpSpPr>
        <p:grpSpPr>
          <a:xfrm>
            <a:off x="571680" y="4071960"/>
            <a:ext cx="642600" cy="1857240"/>
            <a:chOff x="571680" y="4071960"/>
            <a:chExt cx="642600" cy="1857240"/>
          </a:xfrm>
        </p:grpSpPr>
        <p:sp>
          <p:nvSpPr>
            <p:cNvPr id="411" name="Ellipse 6"/>
            <p:cNvSpPr/>
            <p:nvPr/>
          </p:nvSpPr>
          <p:spPr>
            <a:xfrm>
              <a:off x="571680" y="4071960"/>
              <a:ext cx="64260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2" name="Ellipse 7"/>
            <p:cNvSpPr/>
            <p:nvPr/>
          </p:nvSpPr>
          <p:spPr>
            <a:xfrm>
              <a:off x="571680" y="5286240"/>
              <a:ext cx="64260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857160" y="3429000"/>
            <a:ext cx="7358040" cy="3143160"/>
          </a:xfrm>
          <a:prstGeom prst="rect">
            <a:avLst/>
          </a:prstGeom>
          <a:ln w="0">
            <a:noFill/>
          </a:ln>
        </p:spPr>
      </p:pic>
      <p:pic>
        <p:nvPicPr>
          <p:cNvPr id="415" name="Image 4" descr="D:\philippe collège\B InSight\activité sismo proposition\20190425_150434.jpg"/>
          <p:cNvPicPr/>
          <p:nvPr/>
        </p:nvPicPr>
        <p:blipFill>
          <a:blip r:embed="rId3"/>
          <a:stretch/>
        </p:blipFill>
        <p:spPr>
          <a:xfrm>
            <a:off x="4786200" y="285840"/>
            <a:ext cx="3389400" cy="278604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e 5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17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8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D:\philippe collège\B InSight\activité sismo proposition\avec sable.JPG"/>
          <p:cNvPicPr/>
          <p:nvPr/>
        </p:nvPicPr>
        <p:blipFill>
          <a:blip r:embed="rId2"/>
          <a:stretch/>
        </p:blipFill>
        <p:spPr>
          <a:xfrm>
            <a:off x="857160" y="3500280"/>
            <a:ext cx="7429680" cy="306072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e 4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22" name="Ellipse 5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23" name="Ellipse 6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24" name="Image 7" descr="D:\philippe collège\B InSight\activité sismo proposition\20190425_151004.jpg"/>
          <p:cNvPicPr/>
          <p:nvPr/>
        </p:nvPicPr>
        <p:blipFill>
          <a:blip r:embed="rId3"/>
          <a:stretch/>
        </p:blipFill>
        <p:spPr>
          <a:xfrm>
            <a:off x="4786200" y="285840"/>
            <a:ext cx="3484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5T20:42:31Z</dcterms:created>
  <dc:creator>pht</dc:creator>
  <dc:description/>
  <dc:language>en-US</dc:language>
  <cp:lastModifiedBy>pht</cp:lastModifiedBy>
  <dcterms:modified xsi:type="dcterms:W3CDTF">2019-04-25T21:07:46Z</dcterms:modified>
  <cp:revision>7</cp:revision>
  <dc:subject/>
  <dc:title>Quelques réponses en images</dc:title>
</cp:coreProperties>
</file>